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C3EC-2C6D-4374-9DFD-2345DE2D38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333-07C3-4F0B-8172-0D80D9E0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23E-5A5A-4B08-8C05-65EBFBC2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9C5-5526-443A-AF1B-F1873832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ADB-0D47-4B19-A235-BD47B8AF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FBB-8371-4CAB-AB03-D8369335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74E-83CD-41D8-A7E1-CC8A0A87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685-8FEB-4746-B643-9644C5B4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0D9-CC54-4040-8C71-91449FD9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982-8610-49C1-8AC1-4980DDDB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132-8A62-45EC-BC52-C87163C6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B8F-BAFF-4093-81CA-C21CC9FF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911-7A72-492E-8659-AC15F4D2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65D7-BBFB-4CFE-94D0-DFEC6B123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Watch these Videos: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People of the Southwes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 (Password = explorers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kot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676520"/>
          <a:ext cx="8839440" cy="17618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155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u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ue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lti-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rrac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ild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un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78" descr="r_osbn_port_iroq_lg"/>
          <p:cNvPicPr/>
          <p:nvPr/>
        </p:nvPicPr>
        <p:blipFill>
          <a:blip r:embed="rId1"/>
          <a:stretch/>
        </p:blipFill>
        <p:spPr>
          <a:xfrm>
            <a:off x="6961320" y="3809880"/>
            <a:ext cx="1720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0" descr="ist2_1292508_indian_pueblo_at_acoma"/>
          <p:cNvPicPr/>
          <p:nvPr/>
        </p:nvPicPr>
        <p:blipFill>
          <a:blip r:embed="rId2"/>
          <a:stretch/>
        </p:blipFill>
        <p:spPr>
          <a:xfrm>
            <a:off x="1295280" y="3924360"/>
            <a:ext cx="3048120" cy="2028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5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2286000" y="2438280"/>
            <a:ext cx="647712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2133720" y="5105520"/>
            <a:ext cx="167616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04920" y="4343400"/>
            <a:ext cx="2209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outhw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ueblo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The Pueblo 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Dry – Desert Lik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Rocky Mountains &amp; in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ERN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portion of Rocky Mountains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NOR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the Rio Grande River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8" descr="pueblo3"/>
          <p:cNvPicPr/>
          <p:nvPr/>
        </p:nvPicPr>
        <p:blipFill>
          <a:blip r:embed="rId1"/>
          <a:stretch/>
        </p:blipFill>
        <p:spPr>
          <a:xfrm>
            <a:off x="5486400" y="2362320"/>
            <a:ext cx="3200400" cy="3166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ulti-Story, Terraced Building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ade of Mud and Soi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" name="Picture 10" descr="pueblo2"/>
          <p:cNvPicPr/>
          <p:nvPr/>
        </p:nvPicPr>
        <p:blipFill>
          <a:blip r:embed="rId1"/>
          <a:stretch/>
        </p:blipFill>
        <p:spPr>
          <a:xfrm>
            <a:off x="1905120" y="2590920"/>
            <a:ext cx="529596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334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4724280"/>
          <a:ext cx="8610480" cy="194472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60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ld N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ttle Rain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gh Flat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c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39" descr="adobe"/>
          <p:cNvPicPr/>
          <p:nvPr/>
        </p:nvPicPr>
        <p:blipFill>
          <a:blip r:embed="rId1"/>
          <a:stretch/>
        </p:blipFill>
        <p:spPr>
          <a:xfrm>
            <a:off x="5715000" y="1676520"/>
            <a:ext cx="3276720" cy="217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403812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veryone farmed because it was it was a difficult job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pueblo"/>
          <p:cNvPicPr/>
          <p:nvPr/>
        </p:nvPicPr>
        <p:blipFill>
          <a:blip r:embed="rId1"/>
          <a:stretch/>
        </p:blipFill>
        <p:spPr>
          <a:xfrm>
            <a:off x="1752480" y="2133720"/>
            <a:ext cx="3657600" cy="184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indian corn"/>
          <p:cNvPicPr/>
          <p:nvPr/>
        </p:nvPicPr>
        <p:blipFill>
          <a:blip r:embed="rId2"/>
          <a:stretch/>
        </p:blipFill>
        <p:spPr>
          <a:xfrm>
            <a:off x="6400800" y="281952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4496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taoscelebrate"/>
          <p:cNvPicPr/>
          <p:nvPr/>
        </p:nvPicPr>
        <p:blipFill>
          <a:blip r:embed="rId1"/>
          <a:stretch/>
        </p:blipFill>
        <p:spPr>
          <a:xfrm>
            <a:off x="4419720" y="2352600"/>
            <a:ext cx="3886200" cy="3870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pottery, weaving, car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Knowledge of Environmen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 - Corn &amp; Tobacc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Cow Creek-Indian Woman1"/>
          <p:cNvPicPr/>
          <p:nvPr/>
        </p:nvPicPr>
        <p:blipFill>
          <a:blip r:embed="rId1"/>
          <a:stretch/>
        </p:blipFill>
        <p:spPr>
          <a:xfrm>
            <a:off x="5946840" y="2438280"/>
            <a:ext cx="2813040" cy="4181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pots"/>
          <p:cNvPicPr/>
          <p:nvPr/>
        </p:nvPicPr>
        <p:blipFill>
          <a:blip r:embed="rId2"/>
          <a:srcRect l="0" t="30955" r="0" b="27148"/>
          <a:stretch/>
        </p:blipFill>
        <p:spPr>
          <a:xfrm>
            <a:off x="1219320" y="4876920"/>
            <a:ext cx="4000320" cy="16761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06:38Z</dcterms:modified>
  <cp:revision>15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